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944D-B67A-44F8-880C-E6FEFB674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B4EB-3E65-4B6F-9EAE-777E3B29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C9A09-A559-4CA9-A264-00955E5E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038951-1B6B-413A-A2C9-8EBFDCF7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14F5B-1550-4721-91AC-0C79EE06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0171F4-9AA6-4CEF-87B7-19892069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4ADE7-F37F-4AA4-96E3-5D87724C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864781-5CB7-4F6E-B0F3-BB87295E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23CEC-159B-426E-AD8F-A89030C8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0365A-58A7-47D7-A2DA-D0A88D27E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75BB87-D492-42EB-BA72-658678B3F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8D71B-2670-4BEA-A329-E42403364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8645-54AA-41A6-8B66-06BF0D50E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691469-EDA9-4435-9AC0-85E3817C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F251D-705D-4496-A02A-373B74EB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FED63-8C06-47C0-9DE5-758799AB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104BEC-F46E-47F5-B3FC-6B2D27E2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2EE737-B596-4E72-8336-E9119383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96043-EBD9-4A36-B685-E0A9F5CF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2DF98-7D27-4DDB-AE28-E5D13E22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831B5-70BD-4273-8158-617CE274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107104-5325-4719-9EE5-FF222632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30A5C0-C090-4D11-AC6D-D6EBE535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BDF6-8434-4F74-890C-1367CC6D9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1C8C45-7BE3-4192-B202-E44EC0951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13051-C319-4599-9A11-2E2878703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BCA11-1278-411D-A265-DBF1AA92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60AC6-0CF4-40E9-A129-D3C0E993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2607A-6AD6-400E-BAC4-6D425F28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F8DAF-BF09-46EF-A2D3-18C8C644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C24D5-9D60-4F00-A0F5-6389CBF4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B2825-93D1-4BC9-9164-8EDF6884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7C54E-73E7-47FE-BEE2-B4D61D86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AD6FC-1998-4A09-84B2-81C6C882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6BEA-C559-4AC4-928D-745792732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7C74F-BF73-4CA8-BC5B-7638F3F5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F99E4-E5C1-43CD-9A70-5560AF638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E7F72-EA21-4363-B1C3-68ED53ED8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A474C7-7C64-4D9E-87C3-5DB36FCD0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6A53C2-5227-4207-801A-D3C31358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6FF932-1FDD-4B60-A8CF-0F3C3A16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F5FC54-E6A4-4EDA-B417-6B44E4C4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2FC95F-2237-4CB0-AB23-C86DBF1F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7BAF23-0889-4D72-8FA2-BF9AA963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301859-943D-4744-A39E-7BBAB32A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6DFC-C772-4E51-A93A-61FB2C53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572EE2-5474-446E-B73D-7BB428F9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1923C7-7824-4DC0-8A45-40F3736A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A4158-6ABE-43B8-A1DE-068F1C04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FCDD61-D745-4A8B-8BBC-873D7F52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1592D9-C2D6-496D-97D0-5ECADFBFB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81670E-40E9-477C-A759-293A08229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580841-D833-4777-9809-93D777AC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78BD77-8A96-40A3-9B0C-312DB6B3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0E8E96-A2D2-40D5-A820-D36FA485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93D5C4-7039-4744-BEE2-76AF503C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F81A-C891-431E-AD3F-81DB709A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2396E5-313D-47D8-B392-BD8EC81C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CAF49C-2486-4275-AD13-F83A2D94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0BFA80-92AC-4D0B-A753-8CF4A6A8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FCD6EE-FAB4-4A0E-96D2-44F8CB49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AF233D-369E-42C5-A88F-7EB8C722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337332-9D55-4A1B-838D-52C6FCC4B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7B4014-32B6-421A-9434-3E187A5C9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64A0AA-21A7-4CA5-9CD8-0E5F84506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1ABA95-2EA7-4E3B-8CF4-A4FA2232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265AA4-B019-463F-921A-35C028F8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18CF-8BD4-4C3A-8094-1DBECF0D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AE5570-7796-4D8D-9E47-0FFA7E2A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454CE2-84A3-4F1F-ACF0-ACA66548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2FAF1A-8E8A-406E-A745-DC366C46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06CF77-4AF5-4B49-A444-25F0E604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57EABB-179D-422E-962E-A46BA144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12A299-91F8-4DD3-97A9-829DA75E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767E32-A41C-48D0-9BCA-D633042B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90051A-B95C-4BD7-87A9-5A77C193D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BF8FC7-1EA0-454C-9EC2-A689625F7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8E37B5-496C-4B50-A877-E2E4DFA22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9463-F6EE-4617-8CA5-8FCB7779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E78FC1-A2D9-4352-BF50-3B352539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C7B3D0-8BFC-4A82-B18F-62D5462D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902C27-07E7-41E9-928E-5A0FABB1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21A993-FE38-4AD6-9927-1B43A7AE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64E5BA-3570-4185-BCAD-9C53AC45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EA4879-0A88-4D44-9617-791DC054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01BE26-82FF-42A7-A3D0-EBF32417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40FDF1-250D-479B-A0AF-7FC927BC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22CD69-A548-4C5A-B100-273E3F67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76BE9A-6EC0-4099-B728-888483C0C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499C-54AE-4D65-985C-BAB49699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5F5A7C-8ED6-44C9-A66A-A96F8B7BB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C39CEF-22D4-4677-BB5A-4E77B774C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B79F33-6212-4723-9144-E502BEEB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CC49CB-E311-43C1-AA3B-BFA8277E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620DEF-6E1E-4A18-A01B-D6A38018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0FD4A2-4698-48B4-8C4F-FB7EA0A0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69776A-DA3A-4D64-A0EF-9DAF46BD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01F228-DEC4-40C0-A5B7-73DE155F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29DE14-0632-4F48-8162-E242F7DA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9288F5-D717-45BC-A266-B0E3D311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0B36-AE4A-404B-8498-23B27D82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E6BC4B-2238-494E-B38F-E0B274D8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A12F65-67AE-4808-931D-67B437E7D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41C10F-0DD0-4E07-8385-6727D720B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1D9929-501E-49A2-A1B9-ECC054D44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178659-816A-4C66-820D-D91EEEE3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F21089-48BE-4F28-B208-76E5CEF3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AE2ECA-DAB3-4C29-83BA-24DDAB1D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AC8441-2797-42B7-96D2-80DC2997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BD24D4-CD30-41EB-9C44-64019AC0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96F1AB-147E-439B-BA2A-2B6727E3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9378-8934-4675-944B-0383D7EA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28D1-7466-4BAF-BC23-5AB8A347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02D5BB-84BA-49C0-A401-551369A7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7C0977-5B25-4FD3-B17D-941A03B4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9089C2-DB97-4EC8-8B34-BCB16F8D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808F9A-FC86-44E0-8DFA-122B9244E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1BE26E-2AC6-4700-AC7F-60E477B0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E5046B-B650-4F0C-A830-B6F0F4D91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5A3B74-18C4-4663-B075-E9EA924C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F5669A-24F2-4371-9163-C2134788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E1C2E2-B10F-4BFE-9A01-F67BFA86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DFC35D-89C2-4166-A670-E5DE5353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B9CC-6E20-4935-995D-BBC602C7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AA666F-A8A0-4C17-B60E-DC54F1DA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2BEF34-D7FE-4428-9614-800BD937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5FD150-158D-4300-B023-8582D94A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C11705-4A2B-4013-B3D0-1FC3B1E0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34946B-D245-4BF0-B9F6-5A988CA3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F1146F-389E-43C4-AE62-ACEDB90A1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5F1957-4DBC-48A3-ABEB-99F29D8EA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B256-C953-491C-A309-AC032356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0262-48B4-45A0-BA0B-45E3F6F55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346B-ABB2-45E1-970F-BD9946958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E366C-B07C-4448-A53D-5A4205C50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72843-664F-49CD-B40A-7557F029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8E3C9-CF5D-44E8-A53F-282D74BE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8F8C3-7499-459C-99AE-555A0704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0FBCB-6B26-4355-A992-27C4B2E1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64B7-9894-43CD-A8E0-2BB1EE3E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7E758-50FA-4461-AA92-0FA5A5B5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9C0C8-E0CE-4CDE-9C1F-9AA82ABD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C171D-0C26-47EB-8674-93E78658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89684-97E5-44A1-9097-2185B180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DB559-3E68-48A5-880D-33461A56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33B16-B008-4A72-A0D4-D8DA4BB79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158BD-774A-4EA1-866C-072ACD5BF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95BDF-9457-4FD8-B69F-21DA8A7A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79D22-FE5D-4009-9E7F-EBFF72B3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A7575-D85A-4091-8E98-1573EE12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74F9-5DEC-49D6-97F9-DB4592BC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1EF90-207F-4EA1-9503-E512D59F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D7D7B-4E49-494F-ABB8-4D970E10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32B73-F9AA-4C6B-81BE-1032179A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8C7CE-E787-4274-850D-E03F162C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16FF1-BF04-456A-81CB-DF1D39A2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2612E-98CA-4656-8BEB-A53AE249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B8A7D-9887-4BD0-8C8A-9F152ECA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28B80-3AC2-4D61-9828-CECF00EE3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B28FF-2CDB-40D5-974F-B006CA85B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5D07B-3A34-4FE7-B7E9-ABA18F0CD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A632-6787-4391-A295-32EA31C2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8E941-9EE8-4050-ABB1-04751CD4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889D7-E953-49B0-A41E-4BE12A60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B0C50-01D9-468D-B166-BC2D8548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49081-E13D-4CF0-AA13-9C59301F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29C33-911B-46CA-82C4-5ABEBFE6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647DB-4049-4B94-BB7E-F90B60E7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1C070-FEF3-45A7-AE2C-045CBE97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7ABDD-3EE5-4633-992E-90B7AF38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2D450-E2B0-4EF8-AED6-73E1F406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A2BA3-E596-4905-A5EE-AA6D02874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9093-B7D8-473F-8451-F45C1D6D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5BF06-611E-4F1F-9AF0-D00692639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F7394-2242-4583-8988-676F4808C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33491-4566-436C-841E-0ABD7C9F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120B7-E782-4D26-B753-FFB168B3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9F59A-EF60-4B03-A968-F000C8A0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B3BC5-6BB5-47AC-9B32-64FD2220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290AE-997D-4E55-8B81-C1723A1A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830F2-3A0B-4580-AE13-60B6D85C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A3CE9-69FE-403C-B484-E67E731A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7ECD3-0DB7-4896-9BF4-83DAE025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047F-F29F-403A-9F45-391F08A1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FCC9F-9523-4A75-B2D1-6FD9B89D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9103E-863C-4AE2-9370-CFD64D84B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34335-ABD1-4BD4-8947-A6D466701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1BCCF-E99F-4DC7-8261-C03B2A9A6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F2E7B-907D-4A8A-A65C-089A320D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AD2C0-8E9A-408A-A447-416E16D1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20EB3-D0E4-4CFF-9FE1-AE6FD68B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E0714-4135-4159-9A4A-B9A0AA49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581C7-0FC0-46DC-9318-BA9CA734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F085B-41C3-4B86-A454-0FF2AA6D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CACA-21AC-41B5-A745-ECE21B0F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4F9D1-7368-4AEF-8424-8DEA21E7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FA3EA-4DC5-451F-9EE3-2FE52864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48B19-C6D1-432C-A376-92083C9B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ED45A-BB13-4902-B2EA-240C5F31A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BBB18-E847-453F-B70A-15D3EE3FF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32733-7D30-4602-8BD8-EBF2B1350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A7B6D-6D19-4DA0-9D7F-4B3C94AE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34269-9BFD-4B88-BD31-C0629BA8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54EB5-F263-4D7F-9349-F5B0C105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8510F-09AD-4529-B183-6030A275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C98A-A2F1-4EDB-B51E-D7418EC8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16B11-F710-4C37-BDE6-EFBDA97B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484D9-41E2-48CF-8E4F-DEAE9152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C7E1A-A9AE-4E92-B03C-B90839A0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32B15-78A6-4C3B-B440-1E0767D9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FB6D2-F1F3-4150-9A9A-3B0B7F7B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B3FCD-F936-4CA0-8B50-3713A5A14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3D331-4035-4916-BDBB-3A77888F2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7943A-32D6-4424-BA13-4122D6A34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4E4EE0-FF0F-4445-9904-A1A2C9A3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B3F8D4-56B5-4AB7-967C-21797B33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A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AR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68241C-1161-4C88-B30D-B4EE059B7265}" type="slidenum">
              <a:rPr b="0" lang="es-AR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7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8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9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2" name="Rectangle 10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8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A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9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0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AR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800276-18F2-45E6-87A6-622481A89857}" type="slidenum">
              <a:rPr b="0" lang="es-AR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7" descr="HD-ShadowLong.png"/>
          <p:cNvPicPr/>
          <p:nvPr/>
        </p:nvPicPr>
        <p:blipFill>
          <a:blip r:embed="rId3"/>
          <a:stretch/>
        </p:blipFill>
        <p:spPr>
          <a:xfrm>
            <a:off x="0" y="592920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8" descr="HD-ShadowShort.png"/>
          <p:cNvPicPr/>
          <p:nvPr/>
        </p:nvPicPr>
        <p:blipFill>
          <a:blip r:embed="rId4"/>
          <a:stretch/>
        </p:blipFill>
        <p:spPr>
          <a:xfrm>
            <a:off x="10585440" y="5929200"/>
            <a:ext cx="1603440" cy="14472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9"/>
          <p:cNvSpPr/>
          <p:nvPr/>
        </p:nvSpPr>
        <p:spPr>
          <a:xfrm>
            <a:off x="0" y="4567320"/>
            <a:ext cx="1043784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Rectangle 10"/>
          <p:cNvSpPr/>
          <p:nvPr/>
        </p:nvSpPr>
        <p:spPr>
          <a:xfrm>
            <a:off x="10585440" y="4567320"/>
            <a:ext cx="1603440" cy="136836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1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A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2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3"/>
          </p:nvPr>
        </p:nvSpPr>
        <p:spPr>
          <a:xfrm>
            <a:off x="10729800" y="4711680"/>
            <a:ext cx="11541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AR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D3971A-B605-4A39-A8BF-C3172EB14F19}" type="slidenum">
              <a:rPr b="0" lang="es-AR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7" descr="HD-ShadowLong.png"/>
          <p:cNvPicPr/>
          <p:nvPr/>
        </p:nvPicPr>
        <p:blipFill>
          <a:blip r:embed="rId3"/>
          <a:stretch/>
        </p:blipFill>
        <p:spPr>
          <a:xfrm>
            <a:off x="0" y="592920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8" descr="HD-ShadowShort.png"/>
          <p:cNvPicPr/>
          <p:nvPr/>
        </p:nvPicPr>
        <p:blipFill>
          <a:blip r:embed="rId4"/>
          <a:stretch/>
        </p:blipFill>
        <p:spPr>
          <a:xfrm>
            <a:off x="10585440" y="5929200"/>
            <a:ext cx="1603440" cy="14472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9"/>
          <p:cNvSpPr/>
          <p:nvPr/>
        </p:nvSpPr>
        <p:spPr>
          <a:xfrm>
            <a:off x="0" y="4567320"/>
            <a:ext cx="1043784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4" name="Rectangle 10"/>
          <p:cNvSpPr/>
          <p:nvPr/>
        </p:nvSpPr>
        <p:spPr>
          <a:xfrm>
            <a:off x="10585440" y="4567320"/>
            <a:ext cx="1603440" cy="136836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4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A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5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6"/>
          </p:nvPr>
        </p:nvSpPr>
        <p:spPr>
          <a:xfrm>
            <a:off x="10729800" y="4711680"/>
            <a:ext cx="11541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AR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EE0741-E3DF-440F-867E-6312F3594634}" type="slidenum">
              <a:rPr b="0" lang="es-AR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0" descr="HD-ShadowLong.png"/>
          <p:cNvPicPr/>
          <p:nvPr/>
        </p:nvPicPr>
        <p:blipFill>
          <a:blip r:embed="rId3"/>
          <a:stretch/>
        </p:blipFill>
        <p:spPr>
          <a:xfrm>
            <a:off x="0" y="592920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2" descr="HD-ShadowShort.png"/>
          <p:cNvPicPr/>
          <p:nvPr/>
        </p:nvPicPr>
        <p:blipFill>
          <a:blip r:embed="rId4"/>
          <a:stretch/>
        </p:blipFill>
        <p:spPr>
          <a:xfrm>
            <a:off x="10585440" y="5929200"/>
            <a:ext cx="1603440" cy="14472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13"/>
          <p:cNvSpPr/>
          <p:nvPr/>
        </p:nvSpPr>
        <p:spPr>
          <a:xfrm>
            <a:off x="0" y="4567320"/>
            <a:ext cx="1043784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0" name="Rectangle 14"/>
          <p:cNvSpPr/>
          <p:nvPr/>
        </p:nvSpPr>
        <p:spPr>
          <a:xfrm>
            <a:off x="10585440" y="4567320"/>
            <a:ext cx="1603440" cy="136836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1" name="TextBox 15"/>
          <p:cNvSpPr/>
          <p:nvPr/>
        </p:nvSpPr>
        <p:spPr>
          <a:xfrm>
            <a:off x="584280" y="74772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rebuchet MS"/>
              </a:rPr>
              <a:t>“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2" name="TextBox 16"/>
          <p:cNvSpPr/>
          <p:nvPr/>
        </p:nvSpPr>
        <p:spPr>
          <a:xfrm>
            <a:off x="9663120" y="30337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rebuchet MS"/>
              </a:rPr>
              <a:t>”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37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A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38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39"/>
          </p:nvPr>
        </p:nvSpPr>
        <p:spPr>
          <a:xfrm>
            <a:off x="10729800" y="4709880"/>
            <a:ext cx="11541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AR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568F50-9BBC-4B33-957D-D5A7E781FEC2}" type="slidenum">
              <a:rPr b="0" lang="es-AR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8" descr="HD-ShadowLong.png"/>
          <p:cNvPicPr/>
          <p:nvPr/>
        </p:nvPicPr>
        <p:blipFill>
          <a:blip r:embed="rId3"/>
          <a:stretch/>
        </p:blipFill>
        <p:spPr>
          <a:xfrm>
            <a:off x="0" y="592920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9" descr="HD-ShadowShort.png"/>
          <p:cNvPicPr/>
          <p:nvPr/>
        </p:nvPicPr>
        <p:blipFill>
          <a:blip r:embed="rId4"/>
          <a:stretch/>
        </p:blipFill>
        <p:spPr>
          <a:xfrm>
            <a:off x="10585440" y="5929200"/>
            <a:ext cx="1603440" cy="14472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10"/>
          <p:cNvSpPr/>
          <p:nvPr/>
        </p:nvSpPr>
        <p:spPr>
          <a:xfrm>
            <a:off x="0" y="4567320"/>
            <a:ext cx="1043784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8" name="Rectangle 11"/>
          <p:cNvSpPr/>
          <p:nvPr/>
        </p:nvSpPr>
        <p:spPr>
          <a:xfrm>
            <a:off x="10585440" y="4567320"/>
            <a:ext cx="1603440" cy="136836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40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A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41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42"/>
          </p:nvPr>
        </p:nvSpPr>
        <p:spPr>
          <a:xfrm>
            <a:off x="10729800" y="4709880"/>
            <a:ext cx="11541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AR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EE2F82-84FA-4FBF-9064-91EB4BF78960}" type="slidenum">
              <a:rPr b="0" lang="es-AR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2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13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15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4" name="Rectangle 16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43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A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ftr" idx="44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sldNum" idx="45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AR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BDE96F-C2AC-4D7D-8C1F-717B1E21197A}" type="slidenum">
              <a:rPr b="0" lang="es-AR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4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15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16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0" name="Rectangle 17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6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A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47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48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AR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BC8BB0-39E3-47C6-96E6-549B64AA67C1}" type="slidenum">
              <a:rPr b="0" lang="es-AR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6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7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735" name="Rectangle 8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6" name="Rectangle 9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9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A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50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51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AR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B43DF2-92F1-4941-A2F9-858F5723709B}" type="slidenum">
              <a:rPr b="0" lang="es-AR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79" name="Rectangle 6"/>
          <p:cNvSpPr/>
          <p:nvPr/>
        </p:nvSpPr>
        <p:spPr>
          <a:xfrm rot="5400000">
            <a:off x="8115480" y="1869120"/>
            <a:ext cx="510696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0" name="Rectangle 7"/>
          <p:cNvSpPr/>
          <p:nvPr/>
        </p:nvSpPr>
        <p:spPr>
          <a:xfrm rot="5400000">
            <a:off x="9867240" y="5371920"/>
            <a:ext cx="1603440" cy="136836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52"/>
          </p:nvPr>
        </p:nvSpPr>
        <p:spPr>
          <a:xfrm>
            <a:off x="680724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A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53"/>
          </p:nvPr>
        </p:nvSpPr>
        <p:spPr>
          <a:xfrm>
            <a:off x="680760" y="5935680"/>
            <a:ext cx="612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54"/>
          </p:nvPr>
        </p:nvSpPr>
        <p:spPr>
          <a:xfrm>
            <a:off x="10098000" y="5398920"/>
            <a:ext cx="11541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AR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A0145B-6458-4DB8-A1DF-E2816427442A}" type="slidenum">
              <a:rPr b="0" lang="es-AR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D-ShadowLong.png"/>
          <p:cNvPicPr/>
          <p:nvPr/>
        </p:nvPicPr>
        <p:blipFill>
          <a:blip r:embed="rId3"/>
          <a:stretch/>
        </p:blipFill>
        <p:spPr>
          <a:xfrm>
            <a:off x="0" y="4243320"/>
            <a:ext cx="8967960" cy="274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HD-ShadowShort.png"/>
          <p:cNvPicPr/>
          <p:nvPr/>
        </p:nvPicPr>
        <p:blipFill>
          <a:blip r:embed="rId4"/>
          <a:stretch/>
        </p:blipFill>
        <p:spPr>
          <a:xfrm>
            <a:off x="9112320" y="4243320"/>
            <a:ext cx="3076560" cy="2779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0" y="2590920"/>
            <a:ext cx="8967960" cy="165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9112320" y="2590920"/>
            <a:ext cx="3076560" cy="165888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A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9255240" y="2749680"/>
            <a:ext cx="117144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AR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BC8D58-A60C-4BCC-A20C-EB7AFF64C6B5}" type="slidenum">
              <a:rPr b="0" lang="es-AR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6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A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AR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F1159F-BBBB-4CAE-88F2-A2B43BFF4C37}" type="slidenum">
              <a:rPr b="0" lang="es-AR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HD-ShadowLong.png"/>
          <p:cNvPicPr/>
          <p:nvPr/>
        </p:nvPicPr>
        <p:blipFill>
          <a:blip r:embed="rId3"/>
          <a:stretch/>
        </p:blipFill>
        <p:spPr>
          <a:xfrm>
            <a:off x="0" y="4086360"/>
            <a:ext cx="10437840" cy="322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HD-ShadowShort.png"/>
          <p:cNvPicPr/>
          <p:nvPr/>
        </p:nvPicPr>
        <p:blipFill>
          <a:blip r:embed="rId4"/>
          <a:stretch/>
        </p:blipFill>
        <p:spPr>
          <a:xfrm>
            <a:off x="10585440" y="408780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8"/>
          <p:cNvSpPr/>
          <p:nvPr/>
        </p:nvSpPr>
        <p:spPr>
          <a:xfrm>
            <a:off x="0" y="2725560"/>
            <a:ext cx="10437840" cy="136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10585440" y="2725560"/>
            <a:ext cx="160344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A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10729800" y="2869920"/>
            <a:ext cx="11541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AR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59D03F-279D-46B7-8B17-1331142AB2BD}" type="slidenum">
              <a:rPr b="0" lang="es-AR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9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A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AR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8FA26C-F9F5-4552-BD2E-3C5B6C920FC9}" type="slidenum">
              <a:rPr b="0" lang="es-AR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11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A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AR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7C13E7-6151-4DF1-8ECF-9DA9D2CD5482}" type="slidenum">
              <a:rPr b="0" lang="es-AR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7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A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AR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770A0A-89D9-44F6-AC7F-9681AC4852C0}" type="slidenum">
              <a:rPr b="0" lang="es-AR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HD-ShadowShort.png"/>
          <p:cNvPicPr/>
          <p:nvPr/>
        </p:nvPicPr>
        <p:blipFill>
          <a:blip r:embed="rId3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5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A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3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4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AR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45D1E3-454D-4E0F-800E-3B3092116B91}" type="slidenum">
              <a:rPr b="0" lang="es-AR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9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5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A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6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7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AR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F3831B-85A4-45BD-B70D-92D065713210}" type="slidenum">
              <a:rPr b="0" lang="es-AR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0760" y="2063880"/>
            <a:ext cx="3738600" cy="26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rebuchet MS"/>
              </a:rPr>
              <a:t>Responsabilidad de los integrantes de los </a:t>
            </a: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órganos de administración y fiscalización de cooperativas y mutual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680760" y="5100120"/>
            <a:ext cx="3738600" cy="11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000" spc="-1" strike="noStrike">
                <a:solidFill>
                  <a:srgbClr val="000000"/>
                </a:solidFill>
                <a:latin typeface="Trebuchet MS"/>
              </a:rPr>
              <a:t>Dr. Marcelo O. Collomb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24" name="Imagen 3" descr=""/>
          <p:cNvPicPr/>
          <p:nvPr/>
        </p:nvPicPr>
        <p:blipFill>
          <a:blip r:embed="rId1"/>
          <a:stretch/>
        </p:blipFill>
        <p:spPr>
          <a:xfrm>
            <a:off x="5972040" y="790560"/>
            <a:ext cx="520704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rebuchet MS"/>
              </a:rPr>
              <a:t>C</a:t>
            </a:r>
            <a:r>
              <a:rPr b="0" lang="es-ES" sz="3600" spc="-1" strike="noStrike">
                <a:solidFill>
                  <a:srgbClr val="000000"/>
                </a:solidFill>
                <a:latin typeface="Trebuchet MS"/>
              </a:rPr>
              <a:t>ódigo Civil y Comercial de la Nación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Art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ículo 148.- Personas jurídicas privadas. Son personas jurídica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rivada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f) las mutuales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g) las cooperativas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rebuchet MS"/>
              </a:rPr>
              <a:t>Organos en mutuales y cooperativa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23920" indent="-2239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Organo de gobierno- asamblea de asociados: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23920" indent="-2239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Constitutiva,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23920" indent="-2239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Ordinarias,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23920" indent="-2239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Extraordinarias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23920" indent="-2239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23920" indent="-2239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Organo de administraci</a:t>
            </a: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ón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23920" indent="-2239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23920" indent="-2239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Organo de fiscalización privada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1120" y="752040"/>
            <a:ext cx="92232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rebuchet MS"/>
              </a:rPr>
              <a:t>Responsabilidad de la persona jur</a:t>
            </a:r>
            <a:r>
              <a:rPr b="0" lang="es-ES" sz="3600" spc="-1" strike="noStrike">
                <a:solidFill>
                  <a:srgbClr val="000000"/>
                </a:solidFill>
                <a:latin typeface="Trebuchet MS"/>
              </a:rPr>
              <a:t>ídica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Separaci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ón de la personalidad: artículo 143 CCyC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La persona jur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ídica responde por los daños que causen quienes las dirigen o administran: artículo 1763 CCyC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Inoponibilidad de la persona jurídica- Corrimiento del velo societario: fraude a la ley- daños a terceros con la utilización fraudulenta de la persona jurídica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Trebuchet MS"/>
              </a:rPr>
              <a:t>               </a:t>
            </a:r>
            <a:r>
              <a:rPr b="0" lang="es-AR" sz="3600" spc="-1" strike="noStrike">
                <a:solidFill>
                  <a:srgbClr val="000000"/>
                </a:solidFill>
                <a:latin typeface="Trebuchet MS"/>
              </a:rPr>
              <a:t>Responsabilidad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Trebuchet MS"/>
              </a:rPr>
              <a:t>Responsabilidad:</a:t>
            </a:r>
            <a:r>
              <a:rPr b="0" lang="es-AR" sz="2200" spc="-1" strike="noStrike">
                <a:solidFill>
                  <a:srgbClr val="000000"/>
                </a:solidFill>
                <a:latin typeface="Trebuchet MS"/>
              </a:rPr>
              <a:t> capacidad para aceptar las consecuencias de un acto consiente o voluntario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Trebuchet MS"/>
              </a:rPr>
              <a:t>Responsabilidad civil:</a:t>
            </a:r>
            <a:r>
              <a:rPr b="0" lang="es-AR" sz="2200" spc="-1" strike="noStrike">
                <a:solidFill>
                  <a:srgbClr val="000000"/>
                </a:solidFill>
                <a:latin typeface="Trebuchet MS"/>
              </a:rPr>
              <a:t> es la que lleva consigo el resarcimiento de los daños causados y de los perjuicios provocados por uno mismo o por terceros por los que deba responder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Trebuchet MS"/>
              </a:rPr>
              <a:t>Responsabilidad criminal</a:t>
            </a:r>
            <a:r>
              <a:rPr b="0" lang="es-AR" sz="2200" spc="-1" strike="noStrike">
                <a:solidFill>
                  <a:srgbClr val="000000"/>
                </a:solidFill>
                <a:latin typeface="Trebuchet MS"/>
              </a:rPr>
              <a:t>: es la que va unida a un acto u omisi</a:t>
            </a: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ón penado por la ley y realizado por persona imputable, culpable o carente de excusa voluntaria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rebuchet MS"/>
              </a:rPr>
              <a:t>Solidaridad</a:t>
            </a: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: es la responsabilidad total en cada uno de los titulares de un derecho o de los obligados por razón de un acto o contrato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33" name="Imagen 5" descr=""/>
          <p:cNvPicPr/>
          <p:nvPr/>
        </p:nvPicPr>
        <p:blipFill>
          <a:blip r:embed="rId1"/>
          <a:stretch/>
        </p:blipFill>
        <p:spPr>
          <a:xfrm>
            <a:off x="10740960" y="652320"/>
            <a:ext cx="129384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rebuchet MS"/>
              </a:rPr>
              <a:t>Responsabilidad- Leyes Nº 20.321-20.337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Trebuchet MS"/>
              </a:rPr>
              <a:t>1.- Mutuales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Ley Nº 20.321, art</a:t>
            </a: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ículo 15. Responsabilidad solidaria de los integrantes de los órganos de administración y fiscalización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000000"/>
                </a:solidFill>
                <a:uFillTx/>
                <a:latin typeface="Trebuchet MS"/>
              </a:rPr>
              <a:t>2.- Cooperativas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Ley Nº 20.337, artículo 11. Responsabilidad fundadores y consejeros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Ley Nº 20.337, artículo 74. Responsabilidad de los consejeros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Ley Nº 20.337, artículo 71. Comité ejecutivo, no modifica responsabilidades de los consejeros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Ley Nº 20.337, artículo 72. Extensión de responsabilidad a gerentes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rebuchet MS"/>
              </a:rPr>
              <a:t>Ley Nº 20.337, artículo 80. El síndico responde por el incumplimiento de las obligaciones que le imponen la ley y el estatuto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rebuchet MS"/>
              </a:rPr>
              <a:t>             </a:t>
            </a:r>
            <a:r>
              <a:rPr b="0" lang="es-ES_tradnl" sz="3600" spc="-1" strike="noStrike">
                <a:solidFill>
                  <a:srgbClr val="000000"/>
                </a:solidFill>
                <a:latin typeface="Trebuchet MS"/>
              </a:rPr>
              <a:t>Responsabilidad civil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Factores subjetivos: culpa y dolo,</a:t>
            </a: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 art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ículo 1724 CCyCN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Ante quién responden: artículo 160 CCyCN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Buen administrador: artículo 159 CCyCN, artículo 75 Ley Nº 20.337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ximentes de responsabilidad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jercicio de la acción de responsabilidad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Revocación de mandato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rebuchet MS"/>
              </a:rPr>
              <a:t>              </a:t>
            </a:r>
            <a:r>
              <a:rPr b="0" lang="es-ES_tradnl" sz="3600" spc="-1" strike="noStrike">
                <a:solidFill>
                  <a:srgbClr val="000000"/>
                </a:solidFill>
                <a:latin typeface="Trebuchet MS"/>
              </a:rPr>
              <a:t>Responsabilidad penal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CODIGO PENAL ARGENTINO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ítulo VI- Capítulo V. </a:t>
            </a: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Delitos contra la propiedad- Quebrados y otros deudores punibles: art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ículos 178 y 180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Título XII- Capítulo V  . Delitos contra la fe pública- De los fraudes al comercio y a la industria: artículos 300, 300 bis y 301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Balance falso- Responsabilidad del contador públic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726840" y="752040"/>
            <a:ext cx="9567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rebuchet MS"/>
              </a:rPr>
              <a:t>MUCHAS GRACIAS !!!!!!!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26T16:11:44Z</dcterms:created>
  <dc:creator>SEIJAS FRANCISCO IGNACIO</dc:creator>
  <dc:description/>
  <dc:language>en-US</dc:language>
  <cp:lastModifiedBy>Maria</cp:lastModifiedBy>
  <dcterms:modified xsi:type="dcterms:W3CDTF">2021-10-04T17:02:14Z</dcterms:modified>
  <cp:revision>21</cp:revision>
  <dc:subject/>
  <dc:title>Título de la presentación</dc:title>
</cp:coreProperties>
</file>